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35EED-1794-4660-AAA2-57DC2BADBEF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BF93D-98B9-45E4-A324-CB92DFE3953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950F7-23CA-48C5-92F4-5F368181B32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749DB-4AE7-4283-971E-118BA333931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45945-8769-431F-B692-24A43856936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D80A6-D6AF-4AA1-B6EE-727A79F0CF8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DD5B8-11A0-43F3-8EBF-E35200F8637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C0DF1-3272-4C0A-BA7B-6CDEE9FE4DE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23065-0F51-4D71-8D16-4DB82A46C09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0A4B5-4A9B-4D53-A1F8-234AB377948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8733A-D900-4EC3-806D-4416A4D065A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AF4C6-9A9E-4FF9-A773-BDC908A1DB8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F3EE8-D18C-4288-AB19-F4D0DAAD81C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476F3-3DE3-47B6-8B52-B213AE24FB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C237C-5F2F-46D5-B324-DE6078E6E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0854A-1372-4A56-BFFC-A47A0609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858C8-B04C-422F-BCB0-55E8E26648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09143-E057-4E64-9A2A-7B8820171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A2E31-EE90-440D-A4D9-C74E6135F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220BB-843B-490D-814B-9B46B1332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B690B-03B0-4D33-B2C0-1EB5AABA9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C719E-9EB3-4F3D-91D1-F31242799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7B660-832A-40DA-AA4C-91E7A91E7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8923A-3276-4D12-85C5-EED46F43C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90247-C4A3-4A86-8DDB-1318D7001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2694C-B977-4C42-A8A7-2EF65916220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八章 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食管癌患者的护理 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结肠代食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姑息性减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矩形 4"/>
          <p:cNvSpPr/>
          <p:nvPr/>
        </p:nvSpPr>
        <p:spPr>
          <a:xfrm>
            <a:off x="5561640" y="5373720"/>
            <a:ext cx="27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8-2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食管癌切除后横结肠代食管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图片 16" descr="图片2"/>
          <p:cNvPicPr/>
          <p:nvPr/>
        </p:nvPicPr>
        <p:blipFill>
          <a:blip r:embed="rId1"/>
          <a:stretch/>
        </p:blipFill>
        <p:spPr>
          <a:xfrm>
            <a:off x="4572000" y="1989000"/>
            <a:ext cx="429912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食管癌，给予营养支持，放射治疗。身体耐受程度良好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后行食管癌切除后胃代食管术。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与肿瘤消耗、饮食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 与吞咽困难、水分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理呼吸道无效 与呼吸道分泌物较多、手术后疼痛不敢咳嗽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 出血、肺不张、肺炎、乳糜胸、吻合口瘘、吻合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准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监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活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减压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腔闭式引流管的观察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常观察胸管引流是否通畅负压波动是否明显，并定时做管外挤压，若波动消失，引流量骤减，则有胸管堵塞的可能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引流液的颜色、量及性质并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总引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胸液性质的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吻合口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糜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疾病预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活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定期复查，坚持后续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不明，相关因素有生活习惯、饮食因素、遗传因素、疾病因素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早期主要特征性症状为哽噎感、异物感、胸骨后烧灼样、针刺样或牵拉摩擦样疼痛。晚期主要特征性症状为进行性吞咽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 以手术治疗为主，辅以化疗、放疗等综合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术前应关注患者的心理反应，做好呼吸道与肠道准备；术后注意观察伤口及引流情况，及时发现出血、吻合口瘘、乳糜胸等并发症。另外，应教会健康群众以及患者食管癌自我检查的简单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食管癌发病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食管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食管癌不同手术方式的特点及可能出现的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食管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进行性吞咽困难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，以食管癌收人院，经充分的术前准备，行食管部分切除、食管胃吻合术，术后留置胃肠减压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术后留置胃肠减压的目的是什么？如何护理？ 如何做好术后患者的饮食指导？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食管术后放置胃肠减压的目的是：抽出胃肠道内积聚的大量气体和液体，有利于胃肠功能的恢复，有利于吻合口愈合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措施：①术后需持续行胃肠减压，及时抽出胃内液体及气体，保持胃处于空虚状态，以减少胃与食管吻合口的张力，促进伤口愈合，并可防止胃过度扩张压迫肺，影响呼吸功能，②保持胃肠减压管通畅，密切观察胃液的量、颜色及性质并准确记录，如引出大量血液应立即报告医生处理。③胃肠减压管应保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以减少吻合口张力，以利愈合。④注意胃管连接准确，固定牢靠，防止脱出，一旦脱出后不可再插入，以免戳穿吻合口，造成吻合口瘘。⑤待肛门排气、胃肠减压引流量减少后拔出胃管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护理：①禁饮禁食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，持续胃肠减压，注意经静脉补充营养。②停胃肠减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后，若无吻合口瘘的症状，可开始进食。应先饮少量水，若无不适，给予高热量、高蛋白、高维生素易消化的流食，避免患者进食生、冷、硬食物，以防后期吻合口瘘。③逐渐减少静脉输液量，并嘱咐患者进食后不要平卧，保持半坐卧位，以防发生倒流及反流性食管炎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术后若无并发症，一般进流食的时间在                       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肠蠕动恢复，肛门排气后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疼痛消失，体温正常后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伤口拆线后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术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10~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首选的治疗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术治疗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放射疗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化学疗法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综合治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中医治疗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患者的典型症状是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进食时哽噎感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骨后烧灼样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食管内异物感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骨后针刺样不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进行性吞咽困难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好发部位是 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颈管食管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部食管上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部食管中段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部食管下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腹部食管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早期食管癌最好的诊断方法是 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食管拉网细胞学检查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钡餐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食管镜检查治疗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颈淋巴结活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支气管镜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 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A    2.A    3.E    4.C    5.C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食管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sophageal carcino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消化系统常见的恶性肿瘤之一。据估计全世界每年大约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万人死于食管癌，我国约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万人。男性多见，好发年龄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以上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前在无明显诱因下出现进食硬质食物时有哽噎感。稍休息或饮水后缓解，未予重视。后症状持续存在并呈进行性加重，遂到医院就诊。食管镜检查示：食管中下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腔狭窄，黏膜中断，病理报告为鳞癌Ⅱ期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主要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早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表现为食物停滞感或异物感、哽噎感、胸骨后灼烧样、针刺样或牵拉摩擦样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晚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直接扩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淋巴转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行转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钡餐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内镜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拉网脱落细胞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核素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内镜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代食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4572000" y="1776240"/>
            <a:ext cx="4248000" cy="3227400"/>
          </a:xfrm>
          <a:prstGeom prst="rect">
            <a:avLst/>
          </a:prstGeom>
          <a:ln w="0">
            <a:noFill/>
          </a:ln>
        </p:spPr>
      </p:pic>
      <p:sp>
        <p:nvSpPr>
          <p:cNvPr id="137" name="矩形 4"/>
          <p:cNvSpPr/>
          <p:nvPr/>
        </p:nvSpPr>
        <p:spPr>
          <a:xfrm>
            <a:off x="5468040" y="5373720"/>
            <a:ext cx="24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8-1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食管癌切除后胃代食管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13:23Z</dcterms:modified>
  <cp:revision>86</cp:revision>
  <dc:subject/>
  <dc:title>内科护理学</dc:title>
</cp:coreProperties>
</file>